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F97-624A-47FA-9531-441FF290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31D1-DFE9-418A-8EAE-3064B267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BAA-A447-4C75-BF2E-FED0405E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2D0-1BDF-4A42-9FE1-4A30B60A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CCE76-E503-48C2-9EBD-1519D8BB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94DFC-23D9-4996-AE13-773044BB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5D519-2EB3-4112-B674-81874F6A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C052E-382A-41F0-8ADE-73E0595D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C5D13-5EEA-40A4-B313-560C57D8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BF6F5-8388-4E61-A451-24AE5CF2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48495-D96E-4F88-A63A-BC8E7137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99B-86BB-48F5-B465-C5CA3379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153AD-A89D-42EE-BEAF-80140CB9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A32D6-7A7E-4910-8F1D-242758D9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B3814-9D52-4977-95B8-49F8406F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61A71-2421-4C31-B6AF-3E4CB719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09C19-B6B5-4CAC-BD70-FDCCB66D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A29-234D-42CF-BE3F-00721DB0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159-7970-4273-9C37-2ED9BF06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A16-18A0-46A5-8C55-3F127B93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305-B3D4-446E-AC1E-72E095A7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A5C-0292-4AF9-9EE2-C741AC7D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BAE-9406-4726-9C42-96E5C2E1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9CF-0F4D-45E5-A333-275406EB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6845-93B6-481C-8E26-FF5F5B46E2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63BE-60C2-4643-9006-667D18D1A4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5 Themes of Geograph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 Soci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uman/Environment Inter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 a t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 a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a da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a high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ring a fo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a da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ther Examples of Human/Environment Interac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276360" cy="3276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303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nd why people and products m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move, travel and communicate da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s are moving da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v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gious rea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ape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ed from one place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ufactur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ural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are you connected with, and dependent upon, other regions, cultures, and people in the world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1734840" cy="1749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733920" y="3429000"/>
            <a:ext cx="2171520" cy="2171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162920" y="3733920"/>
            <a:ext cx="927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g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ying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untains, deserts, rainfor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6386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ow do regions change over time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019400" cy="2943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540400" y="2057400"/>
            <a:ext cx="2673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5 Themes of Geograp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/Environment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ictures/clipart retrieved from Microsoft PowerPoint version 200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5 Themes of Geograp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/Environment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solu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ct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a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 place is connected to another place by technology, land or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tude=North/South of Equ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itude=East/West of Prime Meri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roit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titude = 42, Longitude = -8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roit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th from War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scribe how to get to your house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65148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920" y="22860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solu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4724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ati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inguishing characteristics of a specific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w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imal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are Alaska to Hawaii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3281400" cy="3733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19920" y="1828800"/>
            <a:ext cx="21715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uman/Environment Inter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in to account at all the effects that occur when people interact with their surrou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to plan and manage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3:27:30Z</dcterms:created>
  <dc:creator>Martha Ross</dc:creator>
  <dc:description/>
  <dc:language>en-US</dc:language>
  <cp:lastModifiedBy>Martha Ross</cp:lastModifiedBy>
  <dcterms:modified xsi:type="dcterms:W3CDTF">2010-10-27T23:46:10Z</dcterms:modified>
  <cp:revision>20</cp:revision>
  <dc:subject/>
  <dc:title>5 Themes of Geography</dc:title>
</cp:coreProperties>
</file>